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93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5993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840" y="210132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840" y="458748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87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7160" y="2101320"/>
            <a:ext cx="27687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4520" y="2101320"/>
            <a:ext cx="27687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687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7160" y="4587480"/>
            <a:ext cx="27687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4520" y="4587480"/>
            <a:ext cx="27687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932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932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6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840" y="2101320"/>
            <a:ext cx="4196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03000"/>
            <a:ext cx="859932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840" y="2101320"/>
            <a:ext cx="4196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6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840" y="210132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840" y="458748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840" y="2101320"/>
            <a:ext cx="41961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5993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59932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932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0400" indent="-2858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2400" indent="-2145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1724040" indent="-2127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2155680" indent="-214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2155680" indent="-214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2155680" indent="-214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inux-4d.sourceforge.net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09520" y="458640"/>
            <a:ext cx="643428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Interfacce Classiche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3680" y="2584080"/>
            <a:ext cx="470700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Utopia"/>
              </a:rPr>
              <a:t>A Linea di Comando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basate su: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Tastiera - Video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857840" y="2619360"/>
            <a:ext cx="4933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Utopia"/>
              </a:rPr>
              <a:t>Graf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Utopia"/>
              </a:rPr>
              <a:t>basate su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Mouse, Tastiera -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20600" y="3351240"/>
            <a:ext cx="3233880" cy="2401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7600" y="3335400"/>
            <a:ext cx="3270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07960" y="342720"/>
            <a:ext cx="7437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Middleware: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Esempio di Rule File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29920" y="2363400"/>
            <a:ext cx="88153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Evento = Azione {, Azione}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[First_Screen]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Fn4 = go(Edit)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K_DOWN = SayHighlighted(3, 25)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K_UP = SayHighlighted(3, 25)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K_TAB = Pause(1), SayHighlighted(3, 25)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EXT(39, 10, E) = SayText(Errore!!!), go(error)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7960" y="342720"/>
            <a:ext cx="7437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Middleware: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Componenti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39440" y="2619360"/>
            <a:ext cx="860436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Key Handler nel Kernel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Screen Reader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L'Engine di gestione Eventi e Rule Fil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Sottosistema di Buffering dell'Output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Update Agent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Web Repository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07960" y="342720"/>
            <a:ext cx="7437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Middleware: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l'Architettura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84280" y="2765520"/>
            <a:ext cx="7089840" cy="43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07960" y="342720"/>
            <a:ext cx="7437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Riferimenti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9200" y="2438280"/>
            <a:ext cx="9223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Sito Web:</a:t>
            </a: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Utopia"/>
              </a:rPr>
              <a:t>http://linux-4d.sourceforge.net</a:t>
            </a: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Email:</a:t>
            </a: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Utopia"/>
              </a:rPr>
              <a:t>mfasanella@users.sourceforge.net</a:t>
            </a: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09520" y="458640"/>
            <a:ext cx="643428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Interfacce Alternative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03960" y="3516480"/>
            <a:ext cx="397512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Cas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Joyst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Touch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Dispositivi Bra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8480" y="3475080"/>
            <a:ext cx="38005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Sintesi Vocal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Riconoscimento Vocal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42876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Lettura Labial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"/>
          <p:cNvSpPr/>
          <p:nvPr/>
        </p:nvSpPr>
        <p:spPr>
          <a:xfrm>
            <a:off x="1898640" y="2565360"/>
            <a:ext cx="64659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Fanno uso di strum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7760" y="79200"/>
            <a:ext cx="729144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Una Semplice Interfaccia Alternativa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440" y="2638440"/>
            <a:ext cx="86043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GNOME OnScreen Keyboard</a:t>
            </a: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27240" y="3854520"/>
            <a:ext cx="778500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8680" y="342720"/>
            <a:ext cx="66056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Open Source: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Vantaggi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39440" y="2968200"/>
            <a:ext cx="86043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Affidabilit</a:t>
            </a: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à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Efficienza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Basso TCO (Total Cost of Ownership)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Non lega al fornitor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Flessibilità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6480" y="342720"/>
            <a:ext cx="7381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Interfacce Alternative: Dasher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39440" y="2638440"/>
            <a:ext cx="86043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5720" y="2417760"/>
            <a:ext cx="8962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Input da: tastiera, casco, touch screen, joystick, mouse, trackball, eyetrac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Predi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Velocit</a:t>
            </a: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à seleziona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Oltre 39 parole al min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Supporto dell'italiano realizzato in Linux 4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Interfaccia per disabilit</a:t>
            </a: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à mot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6480" y="342720"/>
            <a:ext cx="7381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Interfacce Alternative: Dasher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39440" y="2638440"/>
            <a:ext cx="86043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74640" y="2482920"/>
            <a:ext cx="7016760" cy="47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07960" y="342720"/>
            <a:ext cx="7437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Utopia"/>
              </a:rPr>
              <a:t>Linux 4D</a:t>
            </a:r>
            <a:endParaRPr b="0" lang="en-US" sz="6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39440" y="1996560"/>
            <a:ext cx="860436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Linux 4</a:t>
            </a:r>
            <a:r>
              <a:rPr b="1" lang="en-GB" sz="3200" spc="-1" strike="noStrike" baseline="33000">
                <a:solidFill>
                  <a:srgbClr val="000000"/>
                </a:solidFill>
                <a:latin typeface="Utopia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 Dimension o Linux for Disabled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Basato su Linux e componenti Open Sourc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Interfacce Accessibili e Ausili per: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gothic"/>
              </a:rPr>
              <a:t>Non Vedenti e Ipovedenti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gothic"/>
              </a:rPr>
              <a:t>Disabilit</a:t>
            </a: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à Motori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Non Udenti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Disabilità della Comunicazion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4c4c4c"/>
                </a:solidFill>
                <a:latin typeface="Utopia"/>
                <a:ea typeface="Utopia"/>
              </a:rPr>
              <a:t>http://www.asphi.it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Utopia"/>
                <a:ea typeface="Utopia"/>
                <a:hlinkClick r:id="rId2"/>
              </a:rPr>
              <a:t>http://linux-4d.sourceforge.net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7960" y="342720"/>
            <a:ext cx="7437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Interfacce Alternative: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Middleware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39440" y="2506680"/>
            <a:ext cx="8604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Uscita Vocal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Uscita su dispositivi Braill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Voce di Sistema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Screen Reader on Demand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Multilingu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Estendibile con l'Ingresso su Riconoscimento Vocale e Lettura Labial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7960" y="342720"/>
            <a:ext cx="7437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Middleware: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Utopia"/>
              </a:rPr>
              <a:t>Principi di Progetto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39440" y="2619360"/>
            <a:ext cx="860436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Non si modifica il codice delle applicazioni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Descrizione delle Applicazioni con Rule Fil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Distribuzione via Web dei Rule Fil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Modularit</a:t>
            </a: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à ed Estendibilità del Sistema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  <a:p>
            <a:pPr>
              <a:lnSpc>
                <a:spcPct val="142000"/>
              </a:lnSpc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Utopia"/>
              </a:rPr>
              <a:t>Integrazione</a:t>
            </a:r>
            <a:endParaRPr b="0" lang="en-US" sz="3200" spc="-1" strike="noStrike">
              <a:solidFill>
                <a:srgbClr val="0047ff"/>
              </a:solidFill>
              <a:latin typeface="Bitstream Vera Serif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7560" y="146160"/>
            <a:ext cx="17208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